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FC61-5D3C-4B84-816E-286C2CF9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35C7-645D-492E-A131-1B148245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8F4F-D4EF-4324-B721-A9DD5759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93F0-5D6F-43B8-9196-6BE778AC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BC9E-896A-4721-AF00-F82FD520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E627-F659-45D3-808F-200EF24B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8D68-8448-406B-8872-68FB0425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FE9D-E4FE-4022-AD79-20CBB861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D453-E34D-4DF2-8DD4-A02BB0F1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1E95-B829-4FB9-BD69-E7C73AFA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447B-8997-4B27-A317-E286F717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41C7-14BE-48C7-AC9A-2DF4CC17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E812-C168-4AB7-9698-A12A00A708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1508040"/>
            <a:ext cx="96012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习惯   决定    性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性格     决定     命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班里的一些现象总结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79250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上课时“身在曹营心在汉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点评：缺乏专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自习课去问老师问题或到校医室看病时顺便到外面散散步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自习课看到别人讲话，总忍不住要凑一份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点评：缺乏自制力，随意挥霍时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班里的一些现象总结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不少同学喜欢转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在班级吃东西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随意扔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随意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上课有少数同学瞌睡、喝水、讲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值日不认真，不及时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有时生怕自己多干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有少数同学时间抓得不紧，没有课前准备，以上课铃声响来看自己是否该学习了，甚至老师到了还在打闹，有少数同学经常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迟到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562720"/>
            <a:ext cx="8229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总评：（没有长远的目光，对自己的人生没有计划性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84920" y="4952880"/>
            <a:ext cx="3505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（点评：习惯差，随意挥霍时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9216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些现象都是很平常细小的事情，每天都发生在我们身边或身上。为什么会出现这些现象，我们从自己身上找找原因，就像病人生病了总得先找出症状才能对症下药，否则他吃再多的药，他也不一定能治好病；一个学生如果不知道造成成绩差的真正原因是什么，即使他再怎样用功，他也不一定能提高成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82840" y="4572000"/>
            <a:ext cx="623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点评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像这样的小事或许还有很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日子一天天地过，事情一件件地做，不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觉地就变成了你的一种习惯。坏习惯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力量是可怕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改变自己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坏习惯会让自己自食恶果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338904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故事一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个年轻人向理发师学理发，师父要徒弟先拿冬瓜进行练习，用剃刀把冬瓜上的一层薄薄的毛剃干净但不能损坏冬瓜皮。徒弟每次都很细心地把这层毛剃得干干净净而且冬瓜皮完好无损。但是，他每次剃完之后都会顺手把剃刀插在冬瓜上。师父要徒弟改掉这个坏习惯，但徒弟总是说：“没事的，我以后为顾客理发时绝对不会这样做。”结果，当徒弟为第一个顾客理完发时，顺手就把剃刀往顾客头上一插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7560" y="599832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们一定要趁早改变坏习惯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5486400"/>
            <a:ext cx="1600200" cy="1219320"/>
          </a:xfrm>
          <a:prstGeom prst="cloudCallout">
            <a:avLst>
              <a:gd name="adj1" fmla="val -498810"/>
              <a:gd name="adj2" fmla="val -11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启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24000" y="152568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要让事情改变，先改变自己；要让事情变得更好，先让自己变得更好。如果你的成绩提不高，你不去改变学习方法和学习态度，即使换了班级换了老师也没用。只要你一改变，生活也会随之变动。美国成功哲学家金•洛恩说过这么一句话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成功不是追求得来的，而是被改变后的自己主动吸引而来的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22860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改变习惯是需要一个过程的，所以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坚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47239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习惯是可以改变的。只要不断地重复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00200"/>
            <a:ext cx="754380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实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请大家用右手写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“我自信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我出色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;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我努力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我成功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.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再用左手写出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388620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黑体"/>
                <a:ea typeface="黑体"/>
              </a:rPr>
              <a:t>这说明什么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介绍习惯形成的三个阶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为心理学研究表明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以上的重复会形成习惯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的重复会形成稳定的习惯。即同一个动作，重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就会变成习惯性的动作；同样道理，任何一个想法，重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，或者重复验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次，就会变成习惯性想法。所以，一个观念如果被别人或者自己验证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次以上，它一定已经变成了你的信念。习惯的形成大致分三个阶段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第一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左右。此阶段的特征是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“刻意，不自然”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需要十分刻意提醒自己改变，而你也会觉得有些不自然，不舒服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第二阶段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左右。不要放弃第一阶段的努力，继续重复，跨入第二阶段。此阶段的特征是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“刻意，自然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你已经觉得比较自然，比较舒服了，但是一不留意，你还会回复到从前。因此，你还需要刻意提醒自己改变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第三阶段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左右。此阶段的特征是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“不经意，自然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其实这就是习惯。这一阶段被称为“习惯性的稳定期”。一旦跨入此阶段，一个人已经完成了自我改造，这项习惯就已经成为他生命中的一个有机组成部分，它会自然而然地不停地为人们“效劳”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218240"/>
            <a:ext cx="83534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主题班会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彩云"/>
              </a:rPr>
              <a:t>正视自己，改变自己，走向成功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了解了习惯形成的三个阶段之后，同学们商量看看有什么好办法来改变自己的坏习惯，形成好习惯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名言名句贴在桌上警惕自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以请老师同学督促自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以每天定下一个目标，时刻检查自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</a:rPr>
              <a:t>励志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认真学是一天，不认真学也是一天，何不认认真真学习一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3657600"/>
            <a:ext cx="960120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但是人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应该立长志    而不应常立志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</a:rPr>
              <a:t>励志名言</a:t>
            </a: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305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要等待机会，而要创造机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功不是将来才有的，而是从决定去做的那一刻起，持续累积而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行动是治愈恐惧的良药，而犹豫、拖延将不断滋养恐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让我们将事前的忧虑，换为事前的思考和计划吧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长的路，一步步也能走完，再短的路，不迈开双脚也无法到达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任何业绩的质变都来自于量变的积累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对的事情比把事情做对重要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没有一种不通过蔑视、忍受和奋斗就可以征服的命运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没有天生的信心，只有不断培养的信心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只有一条路不能选择——那就是放弃的路；只有一条路不能拒绝——那就是成长的路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个能从别人的观念来看事情，能了解别人心灵活动的人永远不必为自己的前途担心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个人最大的破产是绝望，最大的资产是希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小  结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国有句古话：江山易改，本性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移。这句话的涵义有两层：人的本性是很难改变的；人的本性虽然很难改变，但并非改变不了。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无论是什么做法，贵在坚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只要坚持你就可以成功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03400" y="357120"/>
            <a:ext cx="65196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总        结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法国作家罗曼•罗兰有句名言：</a:t>
            </a:r>
            <a:r>
              <a:rPr b="1" lang="zh-CN" sz="4400" spc="-1" strike="noStrike">
                <a:solidFill>
                  <a:srgbClr val="a50021"/>
                </a:solidFill>
                <a:latin typeface="Arial"/>
              </a:rPr>
              <a:t>性格即命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假如我们的本性中有一些阻碍成功的因素，我们如果不改变，岂不是注定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失败？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其实，每天克服自己一点点毛病，每天坚持进步一点点，我们就会离成功越来越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讨     论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2408400"/>
            <a:ext cx="967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晨读前时间怎样安排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午时间怎样安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晚休后躺在床上睡不着的时间咋安排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61992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人问苏格拉底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世界上什么最难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743200"/>
            <a:ext cx="727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想问同学们一个问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了解自己吗</a:t>
            </a:r>
            <a:r>
              <a:rPr b="1" lang="zh-CN" sz="6000" spc="-1" strike="noStrike">
                <a:solidFill>
                  <a:srgbClr val="ff0000"/>
                </a:solidFill>
                <a:latin typeface="华文彩云"/>
                <a:ea typeface="华文彩云"/>
              </a:rPr>
              <a:t>？</a:t>
            </a:r>
            <a:r>
              <a:rPr b="1" lang="zh-CN" sz="6000" spc="-1" strike="noStrike">
                <a:solidFill>
                  <a:srgbClr val="ff0000"/>
                </a:solidFill>
                <a:latin typeface="华文彩云"/>
                <a:ea typeface="华文彩云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8200" y="1700280"/>
            <a:ext cx="256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苏格拉底答道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认识你自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8763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首先让我们寻找自己的</a:t>
            </a:r>
            <a:br>
              <a:rPr sz="7200"/>
            </a:br>
            <a:br>
              <a:rPr sz="7200"/>
            </a:b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优  点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2161440"/>
            <a:ext cx="85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尺有所短，寸有所长”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其实每个人都有自己的优势和长处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天生我才必有用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要学会欣赏自己，学会暗示自己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可以，我能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不是因为有些事情难以做到，我们才失去自信；而是因为我们失去了自信，有些事情才显得难以做到。拥有自信我们就能逐步摆脱“事事不如人”阴影的困扰，就会感到生活有盼头，从而保持奋发向上的劲头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92360" y="1242360"/>
            <a:ext cx="59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要想了解自己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最好问问别人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自信不是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孤芳自赏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，也不是夜郎自大，更不是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得意忘形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，毫无根据的自以为是。我们要客观地看到在我们身上还存在这样或那样的问题，而这些正是我们通往成功之路的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绊脚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723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能有勇气来正视这些绊脚石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3124080"/>
            <a:ext cx="1905120" cy="99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思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再让我们寻找自己的</a:t>
            </a:r>
            <a:br>
              <a:rPr sz="7200"/>
            </a:br>
            <a:br>
              <a:rPr sz="7200"/>
            </a:b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缺  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班里的一些现象总结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作业不会做，把别人的作业或参考书上的答案不加思索地搬到作业本上以便交差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点评：掩耳盗铃的做法，自欺欺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老师，我不会做，但我不想欺骗你，所以我不交作业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点评：诚实的学生，遇到问题为什么不想办法解决，而让自己的包袱越来越沉重呢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两种都属于遇到问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逃避问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缺乏知难而进的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自习课以讨论问题开始，闲聊告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点评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制能力差，受不了诱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4:32:27Z</dcterms:modified>
  <cp:revision>9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